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10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5B2B-0852-4B9F-9705-1CF88A14B3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41C3-7132-41A4-AA70-1C7B24473EB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CDEE-ADBB-4A7D-A101-EDF0356DB0B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BD5B-317F-412B-9494-1D20BA24229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82EB-A5C4-4059-87AC-5E749891F55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0A2E-27EF-425E-8429-20225F571F4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4126-B3C7-4738-9BC4-7F0D4450BC9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6FCA-0AEA-4EFB-881B-FFACFE463FD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4148-6D04-4E2C-ACCD-4B13BA9FD7D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0AF3-FF7B-4660-B2F9-CCD54C8E901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683D-E0B2-401B-A25D-0BA7F3CF560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EEDB-FD55-49BB-A855-27DAA1410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8868-4416-4D69-80E1-0B111D0A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D4DF-24F6-4305-AD0E-3A8E8A388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B40F-A137-46FA-85E0-6525A0F4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7A3C-6CE9-4494-97FE-2E497AA4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C9CF-4F98-408A-B090-EDFD5EA4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897B-94D5-453A-B500-797F341A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875D-0930-40A7-A088-24F85D7E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92A3-E503-4513-89DF-DE8B54DE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9F63-05A5-46C3-A8EC-DE3DB24E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50CC-5A09-40B0-A305-51DEC837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BD52-B13A-4109-8536-E843053A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7377-2C43-4DAB-8B2B-E3923B57C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692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800"/>
            </a:br>
            <a:r>
              <a:rPr b="1" i="1" lang="ru-RU" sz="4800" spc="-1" strike="noStrike">
                <a:solidFill>
                  <a:srgbClr val="002060"/>
                </a:solidFill>
                <a:latin typeface="Monotype Corsiva"/>
              </a:rPr>
              <a:t>«Самооценка детей дошкольного возраста и её компоненты»</a:t>
            </a:r>
            <a:br>
              <a:rPr sz="4800"/>
            </a:br>
            <a:br>
              <a:rPr sz="48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                         </a:t>
            </a:r>
            <a:br>
              <a:rPr sz="1800"/>
            </a:br>
            <a:r>
              <a:rPr b="1" i="1" lang="ru-RU" sz="1800" spc="-1" strike="noStrike">
                <a:solidFill>
                  <a:srgbClr val="262626"/>
                </a:solidFill>
                <a:latin typeface="Times New Roman"/>
              </a:rPr>
              <a:t>                                          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262626"/>
                </a:solidFill>
                <a:latin typeface="Times New Roman"/>
              </a:rPr>
              <a:t>                                 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262626"/>
                </a:solidFill>
                <a:latin typeface="Times New Roman"/>
              </a:rPr>
              <a:t>                            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262626"/>
                </a:solidFill>
                <a:latin typeface="Times New Roman"/>
              </a:rPr>
              <a:t>                                                                       </a:t>
            </a:r>
            <a:r>
              <a:rPr b="1" i="1" lang="ru-RU" sz="2000" spc="-1" strike="noStrike">
                <a:solidFill>
                  <a:srgbClr val="262626"/>
                </a:solidFill>
                <a:latin typeface="Times New Roman"/>
              </a:rPr>
              <a:t>Крыгина Анна Александровна</a:t>
            </a:r>
            <a:br>
              <a:rPr sz="2000"/>
            </a:br>
            <a:r>
              <a:rPr b="1" i="1" lang="ru-RU" sz="2000" spc="-1" strike="noStrike">
                <a:solidFill>
                  <a:srgbClr val="262626"/>
                </a:solidFill>
                <a:latin typeface="Times New Roman"/>
              </a:rPr>
              <a:t>                          Старший воспитатель МДОАУ «Детский сад № 2»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C:\Users\User\Desktop\през\img0.jpg"/>
          <p:cNvPicPr/>
          <p:nvPr/>
        </p:nvPicPr>
        <p:blipFill>
          <a:blip r:embed="rId1"/>
          <a:stretch/>
        </p:blipFill>
        <p:spPr>
          <a:xfrm>
            <a:off x="3041640" y="2706840"/>
            <a:ext cx="3322800" cy="2193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1476360" y="493560"/>
            <a:ext cx="7056360" cy="93672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2411280" y="66996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Завышенная самооценк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755640" y="2133720"/>
            <a:ext cx="82090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lnSpc>
                <a:spcPct val="15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человек ставит перед собой слишком высокие цели, он неминуемо сталкивается с неуспеха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                                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неудач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1370160" y="376200"/>
            <a:ext cx="7056360" cy="96840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835280" y="56844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Заниженная самооценк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1042920" y="2205000"/>
            <a:ext cx="78501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lnSpc>
                <a:spcPct val="15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человек ставит перед собой слишком легкие для   себя,   только    достижимые  цели  и  т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амым мешает собственному развит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1547640" y="100080"/>
            <a:ext cx="6910560" cy="125100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1433520" y="187200"/>
            <a:ext cx="70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Особенности детей с адекватной самооценко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" descr=""/>
          <p:cNvPicPr/>
          <p:nvPr/>
        </p:nvPicPr>
        <p:blipFill>
          <a:blip r:embed="rId1"/>
          <a:srcRect l="55785" t="19150" r="0" b="0"/>
          <a:stretch/>
        </p:blipFill>
        <p:spPr>
          <a:xfrm>
            <a:off x="6372360" y="2629080"/>
            <a:ext cx="2771640" cy="4235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370720" cy="5383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"/>
          <p:cNvSpPr/>
          <p:nvPr/>
        </p:nvSpPr>
        <p:spPr>
          <a:xfrm>
            <a:off x="1673280" y="96840"/>
            <a:ext cx="6551640" cy="122400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979640" y="9684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Особенности детей с завышенной самооценко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" descr=""/>
          <p:cNvPicPr/>
          <p:nvPr/>
        </p:nvPicPr>
        <p:blipFill>
          <a:blip r:embed="rId1"/>
          <a:srcRect l="59049" t="17342" r="0" b="0"/>
          <a:stretch/>
        </p:blipFill>
        <p:spPr>
          <a:xfrm>
            <a:off x="6372360" y="3068640"/>
            <a:ext cx="2774880" cy="37893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6"/>
          <p:cNvSpPr/>
          <p:nvPr/>
        </p:nvSpPr>
        <p:spPr>
          <a:xfrm>
            <a:off x="755640" y="1550880"/>
            <a:ext cx="820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ни не склонны анализировать результаты своих действий и поступк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в большинстве случаев они пытаются решать любые, в том числе и весьма сложные задачи быстро, не разобрав до конц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чаще всего они не осознают своих неудач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ни стремятся всегда быть на виду, афишируют свои знания и умения, стараются выделиться на фоне других ребят, обратить на них внима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1258920" y="171360"/>
            <a:ext cx="6913440" cy="95400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2185920" y="109440"/>
            <a:ext cx="51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Особенности детей с заниженной самооценко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1"/>
          <a:srcRect l="59999" t="18891" r="2414" b="12844"/>
          <a:stretch/>
        </p:blipFill>
        <p:spPr>
          <a:xfrm>
            <a:off x="6265800" y="2894040"/>
            <a:ext cx="2967120" cy="40449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5"/>
          <p:cNvSpPr/>
          <p:nvPr/>
        </p:nvSpPr>
        <p:spPr>
          <a:xfrm>
            <a:off x="547560" y="1211400"/>
            <a:ext cx="8388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в поведении чаще всего не решительны, малообщительны, недоверчивы к другим людям, молчаливы, скованны в своих движения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ни очень чувствительны, готовы расплакаться в любой момент, не стремятся к сотрудничеству и не способны постоять за себ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ни заранее отказываются от решения задач,  которые кажутся им сложными, но при эмоциональной поддержке взрослого легко справляются  с ним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н долго не приступает к выполнению задания, опасаясь, что не понял, что надо делать и выполнит все неправиль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684360" y="189000"/>
            <a:ext cx="8177040" cy="103968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684360" y="152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витие самооценки детей в зависимости от особенностей воспита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Объект 3"/>
          <p:cNvGraphicFramePr/>
          <p:nvPr/>
        </p:nvGraphicFramePr>
        <p:xfrm>
          <a:off x="684360" y="1228680"/>
          <a:ext cx="8280360" cy="57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28680"/>
                    <a:ext cx="8280360" cy="57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1182600" y="152280"/>
            <a:ext cx="7272360" cy="100836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830240" y="82440"/>
            <a:ext cx="59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Стратегии позитивного оценивая  ребенк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468360" y="1341360"/>
            <a:ext cx="8454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оложительная оценка ребенка как личности, демонстрация доброжелательного к нему отношения («Я знаю, ты очень старался»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указания на ошибки, допущенные при выполнении задания, или нарушения норм поведения («Но сейчас ты поступил неправильно, ты толкнул Машу»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анализ причин допущенных ошибок и плохого поведения («Тебе показалось, что Маша толкнула тебя специально, но она это сделала не нарочно»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обсуждение вместе с ребенком способов исправления ошибок и допустимых в данной ситуации форм повед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выражение уверенности в том, что у него все получится («он не будет больше толкать девочек»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2340000" y="525600"/>
            <a:ext cx="4824360" cy="72216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3024360" y="52560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Первый принци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Блок-схема: решение 6"/>
          <p:cNvSpPr/>
          <p:nvPr/>
        </p:nvSpPr>
        <p:spPr>
          <a:xfrm>
            <a:off x="971640" y="1628640"/>
            <a:ext cx="7777080" cy="388800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2232000" y="3095640"/>
            <a:ext cx="55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«Говорить нужно о ситуации, а не о личност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2195640" y="343080"/>
            <a:ext cx="4968720" cy="76032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3059280" y="431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Второй принци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Блок-схема: решение 5"/>
          <p:cNvSpPr/>
          <p:nvPr/>
        </p:nvSpPr>
        <p:spPr>
          <a:xfrm>
            <a:off x="539640" y="1413000"/>
            <a:ext cx="8604360" cy="468000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2197080" y="2637000"/>
            <a:ext cx="525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«Для того, чтобы выразить свои чувства и не унизить достоинство ребенка, используйте Я-сообщения. Они не унизят достоинство ребен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1979640" y="473040"/>
            <a:ext cx="5616720" cy="76356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3132000" y="56196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Третий принци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Блок-схема: решение 4"/>
          <p:cNvSpPr/>
          <p:nvPr/>
        </p:nvSpPr>
        <p:spPr>
          <a:xfrm>
            <a:off x="1224000" y="1628640"/>
            <a:ext cx="7488360" cy="417672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2519280" y="3240000"/>
            <a:ext cx="489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«Хвалить следует поступки, а не характер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-171720"/>
            <a:ext cx="8353440" cy="648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                                                                                           </a:t>
            </a:r>
            <a:r>
              <a:rPr b="1" i="1" lang="ru-RU" sz="4800" spc="-1" strike="noStrike">
                <a:solidFill>
                  <a:srgbClr val="000066"/>
                </a:solidFill>
                <a:latin typeface="Times New Roman"/>
              </a:rPr>
              <a:t>«Большая ошибка – мечтать о себе больше, чем следует, и ценить себя ниже, чем стоишь…»</a:t>
            </a:r>
            <a:br>
              <a:rPr sz="1200"/>
            </a:br>
            <a:r>
              <a:rPr b="0" i="1" lang="ru-RU" sz="2800" spc="-1" strike="noStrike">
                <a:solidFill>
                  <a:srgbClr val="333399"/>
                </a:solidFill>
                <a:latin typeface="Times New Roman"/>
              </a:rPr>
              <a:t>                                     </a:t>
            </a:r>
            <a:r>
              <a:rPr b="1" i="1" lang="ru-RU" sz="3600" spc="-1" strike="noStrike">
                <a:solidFill>
                  <a:srgbClr val="3333cc"/>
                </a:solidFill>
                <a:latin typeface="Times New Roman"/>
              </a:rPr>
              <a:t>Иоганн Вольфганг Гёте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690480" y="333360"/>
            <a:ext cx="823428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«Если ты потерял деньги – ты ничего не потерял; если ты потерял честь – получи славу, и ты найдешь честь; если ты потерял уверенность в себе – ты потерял все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3700440" y="5854680"/>
            <a:ext cx="5432400" cy="957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3"/>
          <p:cNvSpPr/>
          <p:nvPr/>
        </p:nvSpPr>
        <p:spPr>
          <a:xfrm>
            <a:off x="1258920" y="249228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Monotype Corsiva"/>
              </a:rPr>
              <a:t>Спасибо за  внимание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30000" y="476280"/>
            <a:ext cx="8389800" cy="19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Что такое самооценка?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C:\Users\User\Desktop\през\img2.jpg"/>
          <p:cNvPicPr/>
          <p:nvPr/>
        </p:nvPicPr>
        <p:blipFill>
          <a:blip r:embed="rId1"/>
          <a:stretch/>
        </p:blipFill>
        <p:spPr>
          <a:xfrm>
            <a:off x="2266920" y="2773440"/>
            <a:ext cx="4840200" cy="3273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Скругленный прямоугольник 1"/>
          <p:cNvSpPr/>
          <p:nvPr/>
        </p:nvSpPr>
        <p:spPr>
          <a:xfrm>
            <a:off x="611280" y="260280"/>
            <a:ext cx="8366040" cy="187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755640" y="35712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Vijaya"/>
              </a:rPr>
              <a:t>Самооценка – это оценка личностью самой себя, своих возможностей, качеств 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Vijaya"/>
              </a:rPr>
              <a:t>            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Vijaya"/>
              </a:rPr>
              <a:t>места среди других люд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Скругленный прямоугольник 4"/>
          <p:cNvSpPr/>
          <p:nvPr/>
        </p:nvSpPr>
        <p:spPr>
          <a:xfrm>
            <a:off x="755640" y="2770200"/>
            <a:ext cx="295272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1000080" y="3011400"/>
            <a:ext cx="28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Критич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Скругленный прямоугольник 12"/>
          <p:cNvSpPr/>
          <p:nvPr/>
        </p:nvSpPr>
        <p:spPr>
          <a:xfrm>
            <a:off x="5651640" y="2668680"/>
            <a:ext cx="33559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5398920" y="289548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Взаимоотношения с окружающи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Выгнутая вправо стрелка 5127"/>
          <p:cNvSpPr/>
          <p:nvPr/>
        </p:nvSpPr>
        <p:spPr>
          <a:xfrm>
            <a:off x="3708360" y="2133720"/>
            <a:ext cx="863640" cy="1584360"/>
          </a:xfrm>
          <a:custGeom>
            <a:avLst/>
            <a:gdLst>
              <a:gd name="textAreaLeft" fmla="*/ 115560 w 863640"/>
              <a:gd name="textAreaRight" fmla="*/ 748080 w 863640"/>
              <a:gd name="textAreaTop" fmla="*/ 315000 h 1584360"/>
              <a:gd name="textAreaBottom" fmla="*/ 11613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93" stAng="-5400000" swAng="5400000"/>
                <a:lnTo>
                  <a:pt x="21600" y="11536"/>
                </a:lnTo>
                <a:arcTo wR="21600" hR="8593" stAng="0" swAng="3420827"/>
                <a:lnTo>
                  <a:pt x="5400" y="21327"/>
                </a:lnTo>
                <a:lnTo>
                  <a:pt x="0" y="18657"/>
                </a:lnTo>
                <a:lnTo>
                  <a:pt x="5400" y="15440"/>
                </a:lnTo>
                <a:lnTo>
                  <a:pt x="5400" y="16912"/>
                </a:lnTo>
                <a:arcTo wR="21600" hR="8593" stAng="3420827" swAng="-3183497"/>
                <a:lnTo>
                  <a:pt x="21281" y="10064"/>
                </a:lnTo>
                <a:arcTo wR="21600" hR="8593" stAng="-237330" swAng="-5162670"/>
                <a:close/>
              </a:path>
              <a:path fill="darkenLess" w="21600" h="21600">
                <a:moveTo>
                  <a:pt x="0" y="0"/>
                </a:moveTo>
                <a:arcTo wR="21600" hR="8593" stAng="-5400000" swAng="5400000"/>
                <a:lnTo>
                  <a:pt x="21600" y="11536"/>
                </a:lnTo>
                <a:arcTo wR="21600" hR="8593" stAng="0" swAng="-237330"/>
                <a:lnTo>
                  <a:pt x="21281" y="10064"/>
                </a:lnTo>
                <a:arcTo wR="21600" hR="8593" stAng="-237330" swAng="-5162670"/>
                <a:close/>
              </a:path>
            </a:pathLst>
          </a:cu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Выгнутая влево стрелка 5128"/>
          <p:cNvSpPr/>
          <p:nvPr/>
        </p:nvSpPr>
        <p:spPr>
          <a:xfrm>
            <a:off x="4794120" y="2133720"/>
            <a:ext cx="857520" cy="1584360"/>
          </a:xfrm>
          <a:custGeom>
            <a:avLst/>
            <a:gdLst>
              <a:gd name="textAreaLeft" fmla="*/ 114840 w 857520"/>
              <a:gd name="textAreaRight" fmla="*/ 742680 w 857520"/>
              <a:gd name="textAreaTop" fmla="*/ 315720 h 1584360"/>
              <a:gd name="textAreaBottom" fmla="*/ 11617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09" stAng="-5400000" swAng="-5400000"/>
                <a:lnTo>
                  <a:pt x="0" y="11531"/>
                </a:lnTo>
                <a:arcTo wR="21600" hR="8609" stAng="10800000" swAng="-3423747"/>
                <a:lnTo>
                  <a:pt x="16200" y="21327"/>
                </a:lnTo>
                <a:lnTo>
                  <a:pt x="21600" y="18678"/>
                </a:lnTo>
                <a:lnTo>
                  <a:pt x="16200" y="15483"/>
                </a:lnTo>
                <a:lnTo>
                  <a:pt x="16200" y="16944"/>
                </a:lnTo>
                <a:arcTo wR="21600" hR="8609" stAng="7376253" swAng="3188168"/>
                <a:lnTo>
                  <a:pt x="313" y="10069"/>
                </a:lnTo>
                <a:arcTo wR="21600" hR="8609" stAng="-10564421" swAng="5164421"/>
                <a:close/>
              </a:path>
              <a:path fill="darkenLess" w="21600" h="21600">
                <a:moveTo>
                  <a:pt x="21600" y="0"/>
                </a:moveTo>
                <a:arcTo wR="21600" hR="8609" stAng="-5400000" swAng="-5400000"/>
                <a:lnTo>
                  <a:pt x="0" y="8609"/>
                </a:lnTo>
                <a:arcTo wR="21600" hR="8609" stAng="10800000" swAng="-235579"/>
                <a:lnTo>
                  <a:pt x="313" y="10069"/>
                </a:lnTo>
                <a:arcTo wR="21600" hR="8609" stAng="-10564421" swAng="5164421"/>
                <a:close/>
              </a:path>
            </a:pathLst>
          </a:cu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Выгнутая вправо стрелка 5129"/>
          <p:cNvSpPr/>
          <p:nvPr/>
        </p:nvSpPr>
        <p:spPr>
          <a:xfrm>
            <a:off x="3708360" y="2098800"/>
            <a:ext cx="1079640" cy="324000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708840 h 3240000"/>
              <a:gd name="textAreaBottom" fmla="*/ 239652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51" stAng="-5400000" swAng="5400000"/>
                <a:lnTo>
                  <a:pt x="21600" y="11251"/>
                </a:lnTo>
                <a:arcTo wR="21600" hR="9451" stAng="0" swAng="3567213"/>
                <a:lnTo>
                  <a:pt x="5400" y="21300"/>
                </a:lnTo>
                <a:lnTo>
                  <a:pt x="0" y="19801"/>
                </a:lnTo>
                <a:lnTo>
                  <a:pt x="5400" y="17702"/>
                </a:lnTo>
                <a:lnTo>
                  <a:pt x="5400" y="18601"/>
                </a:lnTo>
                <a:arcTo wR="21600" hR="9451" stAng="3567213" swAng="-3423403"/>
                <a:lnTo>
                  <a:pt x="21502" y="10351"/>
                </a:lnTo>
                <a:arcTo wR="21600" hR="9451" stAng="-143809" swAng="-5256191"/>
                <a:close/>
              </a:path>
              <a:path fill="darkenLess" w="21600" h="21600">
                <a:moveTo>
                  <a:pt x="0" y="0"/>
                </a:moveTo>
                <a:arcTo wR="21600" hR="9451" stAng="-5400000" swAng="5400000"/>
                <a:lnTo>
                  <a:pt x="21600" y="11251"/>
                </a:lnTo>
                <a:arcTo wR="21600" hR="9451" stAng="0" swAng="-143809"/>
                <a:lnTo>
                  <a:pt x="21502" y="10351"/>
                </a:lnTo>
                <a:arcTo wR="21600" hR="9451" stAng="-143809" swAng="-5256191"/>
                <a:close/>
              </a:path>
            </a:pathLst>
          </a:cu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Выгнутая влево стрелка 5130"/>
          <p:cNvSpPr/>
          <p:nvPr/>
        </p:nvSpPr>
        <p:spPr>
          <a:xfrm>
            <a:off x="4521240" y="2098800"/>
            <a:ext cx="1079640" cy="324000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708840 h 3240000"/>
              <a:gd name="textAreaBottom" fmla="*/ 239652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51" stAng="-5400000" swAng="-5400000"/>
                <a:lnTo>
                  <a:pt x="0" y="11251"/>
                </a:lnTo>
                <a:arcTo wR="21600" hR="9451" stAng="10800000" swAng="-3567213"/>
                <a:lnTo>
                  <a:pt x="16200" y="21300"/>
                </a:lnTo>
                <a:lnTo>
                  <a:pt x="21600" y="19801"/>
                </a:lnTo>
                <a:lnTo>
                  <a:pt x="16200" y="17702"/>
                </a:lnTo>
                <a:lnTo>
                  <a:pt x="16200" y="18601"/>
                </a:lnTo>
                <a:arcTo wR="21600" hR="9451" stAng="7232787" swAng="3423403"/>
                <a:lnTo>
                  <a:pt x="98" y="10351"/>
                </a:lnTo>
                <a:arcTo wR="21600" hR="9451" stAng="-10656191" swAng="5256191"/>
                <a:close/>
              </a:path>
              <a:path fill="darkenLess" w="21600" h="21600">
                <a:moveTo>
                  <a:pt x="21600" y="0"/>
                </a:moveTo>
                <a:arcTo wR="21600" hR="9451" stAng="-5400000" swAng="-5400000"/>
                <a:lnTo>
                  <a:pt x="0" y="9451"/>
                </a:lnTo>
                <a:arcTo wR="21600" hR="9451" stAng="10800000" swAng="-143809"/>
                <a:lnTo>
                  <a:pt x="98" y="10351"/>
                </a:lnTo>
                <a:arcTo wR="21600" hR="9451" stAng="-10656191" swAng="5256191"/>
                <a:close/>
              </a:path>
            </a:pathLst>
          </a:cu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6" descr=""/>
          <p:cNvPicPr/>
          <p:nvPr/>
        </p:nvPicPr>
        <p:blipFill>
          <a:blip r:embed="rId1"/>
          <a:stretch/>
        </p:blipFill>
        <p:spPr>
          <a:xfrm>
            <a:off x="730080" y="4478400"/>
            <a:ext cx="3048120" cy="118260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660240" y="4602240"/>
            <a:ext cx="320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Требовательность к себ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7" descr=""/>
          <p:cNvPicPr/>
          <p:nvPr/>
        </p:nvPicPr>
        <p:blipFill>
          <a:blip r:embed="rId2"/>
          <a:stretch/>
        </p:blipFill>
        <p:spPr>
          <a:xfrm>
            <a:off x="5597640" y="4602240"/>
            <a:ext cx="3492360" cy="1182600"/>
          </a:xfrm>
          <a:prstGeom prst="rect">
            <a:avLst/>
          </a:prstGeom>
          <a:ln w="0">
            <a:noFill/>
          </a:ln>
        </p:spPr>
      </p:pic>
      <p:sp>
        <p:nvSpPr>
          <p:cNvPr id="66" name="TextBox 7"/>
          <p:cNvSpPr/>
          <p:nvPr/>
        </p:nvSpPr>
        <p:spPr>
          <a:xfrm>
            <a:off x="5583240" y="4551480"/>
            <a:ext cx="350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Отношение к успехам и не удач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731880" y="260280"/>
            <a:ext cx="8209080" cy="129708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1835280" y="614520"/>
            <a:ext cx="67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Условия развития самооцен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ятиугольник 4"/>
          <p:cNvSpPr/>
          <p:nvPr/>
        </p:nvSpPr>
        <p:spPr>
          <a:xfrm rot="5400000">
            <a:off x="422640" y="2203920"/>
            <a:ext cx="4608720" cy="3889440"/>
          </a:xfrm>
          <a:custGeom>
            <a:avLst/>
            <a:gdLst>
              <a:gd name="textAreaLeft" fmla="*/ 0 w 4608720"/>
              <a:gd name="textAreaRight" fmla="*/ 4609080 w 4608720"/>
              <a:gd name="textAreaTop" fmla="*/ 0 h 3889440"/>
              <a:gd name="textAreaBottom" fmla="*/ 3889800 h 388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485" y="0"/>
                </a:lnTo>
                <a:lnTo>
                  <a:pt x="21600" y="10800"/>
                </a:lnTo>
                <a:lnTo>
                  <a:pt x="1248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08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ятиугольник 6"/>
          <p:cNvSpPr/>
          <p:nvPr/>
        </p:nvSpPr>
        <p:spPr>
          <a:xfrm rot="5400000">
            <a:off x="4787280" y="2276280"/>
            <a:ext cx="4608720" cy="3745080"/>
          </a:xfrm>
          <a:custGeom>
            <a:avLst/>
            <a:gdLst>
              <a:gd name="textAreaLeft" fmla="*/ 0 w 4608720"/>
              <a:gd name="textAreaRight" fmla="*/ 4609080 w 4608720"/>
              <a:gd name="textAreaTop" fmla="*/ 0 h 3745080"/>
              <a:gd name="textAreaBottom" fmla="*/ 3745440 h 374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824" y="0"/>
                </a:lnTo>
                <a:lnTo>
                  <a:pt x="21600" y="10800"/>
                </a:lnTo>
                <a:lnTo>
                  <a:pt x="128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08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879480" y="2205000"/>
            <a:ext cx="351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общение с окружающи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611280" y="3384720"/>
            <a:ext cx="362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ваиваются формы, виды и критерии оцен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5291280" y="2227320"/>
            <a:ext cx="380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собственная деятельность ребе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4859280" y="3384720"/>
            <a:ext cx="423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пробация, наполнение личностными смысл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730080" y="171360"/>
            <a:ext cx="8256600" cy="110196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1427040" y="43020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Этапы развития самооцен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774720" y="1351080"/>
            <a:ext cx="2448000" cy="102240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774720" y="2352600"/>
            <a:ext cx="2473200" cy="437688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Прямоугольник 5"/>
          <p:cNvSpPr/>
          <p:nvPr/>
        </p:nvSpPr>
        <p:spPr>
          <a:xfrm>
            <a:off x="3473280" y="1363680"/>
            <a:ext cx="2592720" cy="107784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3486240" y="2340000"/>
            <a:ext cx="2579760" cy="440208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701640" y="1273320"/>
            <a:ext cx="25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Times New Roman"/>
              </a:rPr>
              <a:t>Младший дошкольный возрас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8"/>
          <p:cNvSpPr/>
          <p:nvPr/>
        </p:nvSpPr>
        <p:spPr>
          <a:xfrm>
            <a:off x="774720" y="2463840"/>
            <a:ext cx="223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оло 3,5 лет у детей уже можно наблюдать массовые реакции на успех и неудачу, очевидным образом связанные с самооценк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3479760" y="1273320"/>
            <a:ext cx="2606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Средний дошкольный возрас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11"/>
          <p:cNvSpPr/>
          <p:nvPr/>
        </p:nvSpPr>
        <p:spPr>
          <a:xfrm>
            <a:off x="3241800" y="2432160"/>
            <a:ext cx="28479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многих детей складывается умение и потребность правильно оценивать себя, свои успехи, неудачи, личностные  качества, причем не только в игровой, но и в других видах деятельности: учении, труде и обще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Прямоугольник 12"/>
          <p:cNvSpPr/>
          <p:nvPr/>
        </p:nvSpPr>
        <p:spPr>
          <a:xfrm>
            <a:off x="6300720" y="1392120"/>
            <a:ext cx="2685960" cy="97164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6346800" y="1314360"/>
            <a:ext cx="25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Times New Roman"/>
              </a:rPr>
              <a:t>Старший дошкольный возрас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Прямоугольник 15"/>
          <p:cNvSpPr/>
          <p:nvPr/>
        </p:nvSpPr>
        <p:spPr>
          <a:xfrm>
            <a:off x="6300720" y="2363760"/>
            <a:ext cx="2685960" cy="437832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16"/>
          <p:cNvSpPr/>
          <p:nvPr/>
        </p:nvSpPr>
        <p:spPr>
          <a:xfrm>
            <a:off x="6300720" y="2352600"/>
            <a:ext cx="2843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 придают большое значение оценкам, даваемым им взрослыми людьм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бенок не ждет такой оценки, а активно сам добивается ее, стремится  получить похвалу, очень старается ее заслуж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1042920" y="333360"/>
            <a:ext cx="7274160" cy="83196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2138400" y="45720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Компоненты самооцен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826920" y="1773360"/>
            <a:ext cx="7993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Когнитивный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(представление о себе, знания о себе, сравнения с другими и анализ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826920" y="3281400"/>
            <a:ext cx="7993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2.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Эмоциональный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(отношение к себе, которое формируется из отношений взрослых к ребенку, удовлетворение его положением в семье и среди сверстников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971640" y="260280"/>
            <a:ext cx="7561080" cy="93672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1547640" y="41760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Виды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 самооцен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785880" y="170028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Адекватная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(нормальная), соответствует реальному представлению о себ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785880" y="299736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2.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Завышенная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(из-за надуманной переоценке себ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785880" y="429264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3.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Заниженная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(из-за кажущейся переоценки себя и своих возможностей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547640" y="372960"/>
            <a:ext cx="6553440" cy="79704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1987560" y="47952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Адекватная самооценк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835200" y="1628640"/>
            <a:ext cx="792144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lnSpc>
                <a:spcPct val="15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оответствует реальной успешности человека в какой-либо деятельно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lnSpc>
                <a:spcPct val="15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высокий уровень самоуважения, общей самооценк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lnSpc>
                <a:spcPct val="15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человек, обладающий чувством собственного достоинства, уверенный в себ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4T06:35:35Z</dcterms:created>
  <dc:creator>Admin</dc:creator>
  <dc:description/>
  <dc:language>en-US</dc:language>
  <cp:lastModifiedBy>User</cp:lastModifiedBy>
  <dcterms:modified xsi:type="dcterms:W3CDTF">2019-02-27T05:02:47Z</dcterms:modified>
  <cp:revision>99</cp:revision>
  <dc:subject/>
  <dc:title>Your Title Here…</dc:title>
</cp:coreProperties>
</file>